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45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0.jpeg" ContentType="image/jpeg"/>
  <Override PartName="/ppt/media/image24.jpeg" ContentType="image/jpeg"/>
  <Override PartName="/ppt/media/image43.png" ContentType="image/png"/>
  <Override PartName="/ppt/media/image40.jpeg" ContentType="image/jpeg"/>
  <Override PartName="/ppt/media/image44.png" ContentType="image/pn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3.jpeg" ContentType="image/jpeg"/>
  <Override PartName="/ppt/media/image3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1513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148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5200" y="744120"/>
            <a:ext cx="49654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0760" y="4717800"/>
            <a:ext cx="54529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60280" y="943308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804C-10FA-4AD8-BB63-9ABE9C8BE1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556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0760" y="4717800"/>
            <a:ext cx="54529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cous membranes secrete a physical barrier of mucus which traps pathogens.  The mucus is then swept out of the throat and nose and into the stom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cus is antiseptic (kills bacteria) due to lyso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sozymes – destroy bacterial 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556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0760" y="4717800"/>
            <a:ext cx="54529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maged cells release an enzyme called Thrombokina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as well as Factor X, Factor VII and Ca+ inos cause Prothrombin (inactive enzyme) to change to Thrombin (active enzy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mbin will hydrolyse soluble fibrinogen into fibrin which is insolubl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 forms a network which traps erythrocytes and becomes a cl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 haemophilia factors are VIII and IX – these are important in step a abov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62440" y="9434520"/>
            <a:ext cx="29527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83DD-EEDD-4280-BEDB-38C5EB483924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556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993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556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17800"/>
            <a:ext cx="54529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IDS: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quired Immuno deficiency syndrom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cquir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elates the infectious nature of AIDS through the transmission of the HIV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Immuno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defici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elates to the way diseases cannot be resis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yndrom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elates to the variation in the way the disease manifest itself. People who develop AIDS can be a affected by quite different set of dis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556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0760" y="4717800"/>
            <a:ext cx="54529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– single celled organisms able to reproduce by themselves.  Categorised based on their sh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ozoa (larger and more complex than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s (e.g. flatworms, round wo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ons are misformed proteins that get into organisms and cause cells to die, especially brain cells- ‘mad cow disease’, CJD in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556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17800"/>
            <a:ext cx="54529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ost major advances in modern medicine has been the development of 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fungi and bacteria to inhibit growth of their compet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0F9F-F6E6-48B0-A399-0AE75C1D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6120-61EF-489B-BD70-9FB5D9D9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CB1C-B511-4BC3-BAED-D5E0F7C5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D2CF-0501-4718-93EA-4E60E356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5BE0-235E-4091-9E91-3748E1F6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8D84-046C-464B-8E67-7AD9A297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6E6B-4837-40D1-890C-6C8AB4FA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417F-8807-4793-ADB8-77C03CDD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4834-4FE7-4A3D-AAC0-98D9987C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F86F-89E8-4666-85C1-7C230630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5F66-1B68-4A8C-BCB5-91554124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FEB3-D685-4376-8B4F-27C5F1E7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B5F3-1574-4FDD-AB21-D6A813A8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29DB-4BA6-4574-9D4D-A49D09C3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7C66-6A3F-491B-B8AB-732CFEE2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3852-AB93-4E75-9513-D1DE3832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B88B-0028-429B-9915-7A9656A4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DB4A-BA66-40E7-90C3-69021302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73BA-8B34-4905-99C5-C31A1943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F0E8-8DFB-4E58-9F2E-277E5DB6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4221-860D-426F-8E0F-C7A04EE9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A88C-0D7E-451C-BE74-D65022CD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86F3-98B8-4746-BE55-CF619F8E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FEFD-A386-4203-8D57-84518B71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E2C7-729E-4ABF-9A87-35FAE94322EB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7966-F6EE-40D5-A038-FFFA836FE6DD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iology-animations.blogspot.com/2008/01/hemophilia-video.html" TargetMode="External"/><Relationship Id="rId3" Type="http://schemas.openxmlformats.org/officeDocument/2006/relationships/hyperlink" Target="http://biology-animations.blogspot.com/2008/01/for-detailed-information-httpen.html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ghered.mcgraw-hill.com/sites/0072495855/student_view0/chapter2/animation__phagocytosis.html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www.anaspec.com/images/detectionReagentsa.gif&amp;imgrefurl=http://www.anaspec.com/products/productlinedescription.asp%3FmenuID%3D6&amp;usg=___GES0q3lXlQegjBBAF0Yfd40zXs=&amp;h=1024&amp;w=1392&amp;sz=811&amp;hl=en&amp;start=16&amp;um=1&amp;tbnid=V7EbVGU0QbZpZM:&amp;tbnh=110&amp;tbnw=150&amp;prev=/images%3Fq%3Dantibodies%26gbv%3D2%26hl%3Den%26sa%3DG%26um%3D1" TargetMode="External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hyperlink" Target="http://images.google.co.uk/imgres?imgurl=http://www.bbc.co.uk/schools/gcsebitesize/science/images/vaccine_injection_1.jpg&amp;imgrefurl=http://www.bbc.co.uk/schools/gcsebitesize/science/edexcel/health/drugsandhealthrev_print.shtml&amp;usg=__HUKlkK60tqBslh9gmv-c4FpCbi0=&amp;h=170&amp;w=226&amp;sz=18&amp;hl=en&amp;start=6&amp;um=1&amp;tbnid=ta2Em7_wPtqxHM:&amp;tbnh=81&amp;tbnw=108&amp;prev=/images%3Fq%3Dvaccine%2Binjection%26gbv%3D2%26hl%3Den%26sa%3DG%26um%3D1" TargetMode="External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www.sciencemuseum.org.uk/antenna/cancerkillers/images/cells.jpg&amp;imgrefurl=http://www.sciencemuseum.org.uk/antenna/cancerkillers/&amp;usg=__09GHyAXj-PKRrKdqkQKElHX2Tts=&amp;h=320&amp;w=290&amp;sz=40&amp;hl=en&amp;start=2&amp;um=1&amp;tbnid=tFWdvNC37_8XoM:&amp;tbnh=118&amp;tbnw=107&amp;prev=/images%3Fq%3Dwhite%2Bblood%2Bcells%26gbv%3D2%26hl%3Den%26sa%3DG%26um%3D1" TargetMode="External"/><Relationship Id="rId3" Type="http://schemas.openxmlformats.org/officeDocument/2006/relationships/image" Target="../media/image31.jpeg"/><Relationship Id="rId4" Type="http://schemas.openxmlformats.org/officeDocument/2006/relationships/hyperlink" Target="http://images.google.co.uk/imgres?imgurl=http://wwwuser.gwdg.de/~hbruegg/ct/tetanus2.gif&amp;imgrefurl=http://wwwuser.gwdg.de/~hbruegg/ct/start.htm&amp;usg=__lpz3iIYvyTfteDfZ2PJD5dS4QR0=&amp;h=304&amp;w=514&amp;sz=148&amp;hl=en&amp;start=1&amp;um=1&amp;tbnid=Oo2Zg9sd616STM:&amp;tbnh=77&amp;tbnw=131&amp;prev=/images%3Fq%3Dtetanus%26gbv%3D2%26hl%3Den%26sa%3DG%26um%3D1" TargetMode="External"/><Relationship Id="rId5" Type="http://schemas.openxmlformats.org/officeDocument/2006/relationships/image" Target="../media/image32.jpeg"/><Relationship Id="rId6" Type="http://schemas.openxmlformats.org/officeDocument/2006/relationships/hyperlink" Target="http://images.google.co.uk/imgres?imgurl=http://www.medical-look.com/diseases_images/tetanus.gif&amp;imgrefurl=http://www.medical-look.com/Bacterial_infections/Tetanus.html&amp;usg=__xsZf6kYcsiYCosxfPSIXnpypgCk=&amp;h=257&amp;w=384&amp;sz=56&amp;hl=en&amp;start=14&amp;um=1&amp;tbnid=OY1tvaZ4M4XAzM:&amp;tbnh=82&amp;tbnw=123&amp;prev=/images%3Fq%3Dtetanus%26gbv%3D2%26hl%3Den%26sa%3DG%26um%3D1" TargetMode="External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Rabies_virus_longitudinal.svg" TargetMode="External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youtube.com/watch?v=RO8MP3wMvqg&amp;feature=related" TargetMode="External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web.princeton.edu/sites/ehs/biosafety/animalworker/pics/antibiotics.jpg&amp;imgrefurl=http://web.princeton.edu/sites/ehs/biosafety/animalworker/pg2.htm&amp;usg=__F-W_My_bDSeGmMwxVTtFu0W0_EU=&amp;h=480&amp;w=640&amp;sz=70&amp;hl=en&amp;start=1&amp;um=1&amp;tbnid=8tzFtph0nlwwQM:&amp;tbnh=103&amp;tbnw=137&amp;prev=/images%3Fq%3Dantibiotics%26hl%3Den%26safe%3Doff%26sa%3DG%26um%3D1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images.google.co.uk/imgres?imgurl=http://www.biotechnologyonline.gov.au/biotechnologyonline/images/contentpages/antibiotics.jpg&amp;imgrefurl=http://www.biotechnologyonline.gov.au/biotechnologyonline/popups/img_antibiotics.html&amp;usg=__KpVXJbZV8Dxw7JuG5jtaYu8A1CI=&amp;h=486&amp;w=739&amp;sz=19&amp;hl=en&amp;start=2&amp;um=1&amp;tbnid=_wLaG62YZuHvYM:&amp;tbnh=93&amp;tbnw=141&amp;prev=/images%3Fq%3Dantibiotics%26hl%3Den%26safe%3Doff%26sa%3DG%26um%3D1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1676160"/>
            <a:ext cx="813420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Topic 6.3</a:t>
            </a:r>
            <a:br>
              <a:rPr sz="4400"/>
            </a:b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Defence against </a:t>
            </a:r>
            <a:br>
              <a:rPr sz="4400"/>
            </a:b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infectious diseas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55280" y="4581000"/>
            <a:ext cx="7993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Topic 6: Human Health and Physiology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1612" t="0" r="1612" b="0"/>
          <a:stretch/>
        </p:blipFill>
        <p:spPr>
          <a:xfrm>
            <a:off x="0" y="1125360"/>
            <a:ext cx="9144000" cy="475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ki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Mucous membran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ar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we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Hair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bum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lood clot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ilia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tomach ac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343480" y="0"/>
            <a:ext cx="38005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Ski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Unbroken skin provides a fantastic barrier against pathogens trying to enter the bod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bum (oil) waterproofing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You do not need to learn the parts of this diagram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4311360" cy="530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Mucous Membranes </a:t>
            </a:r>
            <a:br>
              <a:rPr sz="4400"/>
            </a:br>
            <a:r>
              <a:rPr b="0" lang="en-US" sz="3400" spc="-1" strike="noStrike">
                <a:solidFill>
                  <a:srgbClr val="cc0099"/>
                </a:solidFill>
                <a:latin typeface="Tahoma"/>
              </a:rPr>
              <a:t>(and other non-specific immunity)</a:t>
            </a:r>
            <a:endParaRPr b="0" lang="en-US" sz="3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40384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ungs – Mucous membranes and cilia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tomach – Aci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Urethra – mucus membranes + urine is sterile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2920" y="2997000"/>
            <a:ext cx="4038840" cy="36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Eyes – tears contain lysozym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Vagina – mucous membranes and  ac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Anus – mucous membran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981080"/>
            <a:ext cx="83628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nywhere on the body that is not protected by skin has its own method of protect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Infection!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s occurs if pathogens do get inside the body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e proteins on the surface of a pathogen are immediately recognised as “foreign”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hagocytes (a type of leucocytes) will ingest the pathogen by phagocytosis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11.1.1 Blood Clotting H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02136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9900"/>
                </a:solidFill>
                <a:uFillTx/>
                <a:latin typeface="Tahoma"/>
                <a:hlinkClick r:id="rId2"/>
              </a:rPr>
              <a:t>http://biology-animations.blogspot.com/2008/01/hemophilia-video.html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marL="229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marL="229680" indent="-229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9900"/>
                </a:solidFill>
                <a:uFillTx/>
                <a:latin typeface="Tahoma"/>
                <a:hlinkClick r:id="rId3"/>
              </a:rPr>
              <a:t>http://biology-animations.blogspot.com/2008/01/for-detailed-information-httpen.html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0" y="907920"/>
            <a:ext cx="3090960" cy="4857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606040" y="836640"/>
            <a:ext cx="7051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Clotting is the mechanism that prevents and blood loss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from broken blood vessels.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Tahoma"/>
              </a:rPr>
              <a:t>Mechanis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Platelets or damaged cells release a group of proteins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called clotting factors. These clotting factors are released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into the plasma a wound site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b)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Clotting factors activate the enzyme </a:t>
            </a: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Thrombin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from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its inactive form prothrombin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c)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Thrombin turns the soluble plasma protein </a:t>
            </a: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fibrinogen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into its insoluble fibrous form </a:t>
            </a: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Fibrin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d)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Fibrin binds together platelets and blood cells to form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a solid 'plug' for the4 wound. This plug is called a clot.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pic>
        <p:nvPicPr>
          <p:cNvPr id="130" name="" descr="Uploaded Image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590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0" t="2178" r="0" b="23022"/>
          <a:stretch/>
        </p:blipFill>
        <p:spPr>
          <a:xfrm>
            <a:off x="2411280" y="-9360"/>
            <a:ext cx="457704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99"/>
                </a:solidFill>
                <a:latin typeface="Tahoma"/>
              </a:rPr>
              <a:t>Phagocytosis S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031840" y="2006640"/>
            <a:ext cx="5080320" cy="406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Phagocyt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hagocytes are found in the blood and in body tissues such as the lungs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fter phagocytes engulf pathogens, they destroy them with digestive enzymes found in lysosomes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0" t="0" r="56652" b="29187"/>
          <a:stretch/>
        </p:blipFill>
        <p:spPr>
          <a:xfrm>
            <a:off x="5197320" y="1700280"/>
            <a:ext cx="3689640" cy="453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What is a pathogen?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Patho = disease   Gen = Producer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A pathogen is an organism or virus that causes a disease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Why aren’t viruses called organisms??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Organisms are living things.  What are the characteristics of living things?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damage to tissues allows invasion across 1st line of defense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microbes successfully invade body fluids or tissue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damaged cells release histamine and other chemicals initiating inflamma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phagocytes attracted to site by chemotaxis toward histamine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phagocytes recognize microbes as foreign by antigen recogni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variety of phagocytic cells: neutrophils (small phagocytic &amp; macrophages (large phagocytic)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phagocytes endocytotically engulf microbes,which are digested by enzymes held in lysosome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digested microbe fragments are displayed on cell membrane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phagocytes with microbe fragments displayed = antigen-presenting cells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pic>
        <p:nvPicPr>
          <p:cNvPr id="142" name="" descr="Uploaded Image"/>
          <p:cNvPicPr/>
          <p:nvPr/>
        </p:nvPicPr>
        <p:blipFill>
          <a:blip r:embed="rId2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Tahoma"/>
              </a:rPr>
              <a:t>Phagocytosi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713800" cy="521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Phagocytosi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s </a:t>
            </a:r>
            <a:r>
              <a:rPr b="0" lang="en-US" sz="3200" spc="-1" strike="noStrike" u="sng">
                <a:solidFill>
                  <a:srgbClr val="cc9900"/>
                </a:solidFill>
                <a:uFillTx/>
                <a:latin typeface="Tahoma"/>
                <a:hlinkClick r:id="rId2"/>
              </a:rPr>
              <a:t>animation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is in too much detail for SL IB but it shows the process perfectly!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675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Tahoma"/>
              </a:rPr>
              <a:t>6.3.5 Distinguish between </a:t>
            </a:r>
            <a:r>
              <a:rPr b="1" i="1" lang="en-US" sz="4000" spc="-1" strike="noStrike">
                <a:solidFill>
                  <a:srgbClr val="cc0099"/>
                </a:solidFill>
                <a:latin typeface="Tahoma"/>
              </a:rPr>
              <a:t>antigens</a:t>
            </a:r>
            <a:r>
              <a:rPr b="1" lang="en-US" sz="4000" spc="-1" strike="noStrike">
                <a:solidFill>
                  <a:srgbClr val="cc0099"/>
                </a:solidFill>
                <a:latin typeface="Tahoma"/>
              </a:rPr>
              <a:t> and </a:t>
            </a:r>
            <a:r>
              <a:rPr b="1" i="1" lang="en-US" sz="4000" spc="-1" strike="noStrike">
                <a:solidFill>
                  <a:srgbClr val="cc0099"/>
                </a:solidFill>
                <a:latin typeface="Tahoma"/>
              </a:rPr>
              <a:t>antibodies</a:t>
            </a:r>
            <a:r>
              <a:rPr b="0" lang="en-US" sz="4000" spc="-1" strike="noStrike">
                <a:solidFill>
                  <a:srgbClr val="cc0099"/>
                </a:solidFill>
                <a:latin typeface="Tahoma"/>
              </a:rPr>
              <a:t>  SL</a:t>
            </a:r>
            <a:endParaRPr b="0" lang="en-US" sz="40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46180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tigen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 a molecule recognized as foreign by the immune system; it elicits an immune response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tibody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 =immunoglobuli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a globular protei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recognizes an antigen by its complementary shape and charge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thus allowing it to attach to the antigen specifically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marking it for attack by the immune system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50" name="" descr="Uploaded Image"/>
          <p:cNvPicPr/>
          <p:nvPr/>
        </p:nvPicPr>
        <p:blipFill>
          <a:blip r:embed="rId2"/>
          <a:stretch/>
        </p:blipFill>
        <p:spPr>
          <a:xfrm>
            <a:off x="1908000" y="1484280"/>
            <a:ext cx="5185080" cy="304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Antigen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1055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00"/>
                </a:solidFill>
                <a:latin typeface="Tahoma"/>
              </a:rPr>
              <a:t>Anything that elicits an immune response</a:t>
            </a:r>
            <a:endParaRPr b="0" lang="en-US" sz="39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00"/>
                </a:solidFill>
                <a:latin typeface="Tahoma"/>
              </a:rPr>
              <a:t>Usually a foreign protein</a:t>
            </a:r>
            <a:endParaRPr b="0" lang="en-US" sz="39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4343400" cy="29703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609480" y="55627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cat and its dander, an allergen/antigen for many peopl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Tahoma"/>
              </a:rPr>
              <a:t>Antibodies S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Also known as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immunoglobulin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Globular glycoprotein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The heavy and light chains are polypeptid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The chains are held together by disulphide bridg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Each antiboby has 2 identical antigen binding sites – variable regions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The order of amino acids in the variable region determines the shape of the binding sit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57" name="" descr="antibody"/>
          <p:cNvPicPr/>
          <p:nvPr/>
        </p:nvPicPr>
        <p:blipFill>
          <a:blip r:embed="rId2"/>
          <a:stretch/>
        </p:blipFill>
        <p:spPr>
          <a:xfrm>
            <a:off x="6732720" y="333360"/>
            <a:ext cx="2124000" cy="20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475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ahoma"/>
              </a:rPr>
              <a:t>Antige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Most are proteins or large polysaccharides from a foreign organism.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Microbes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:  Capsules, cell walls, toxins, viral capsids, flagella, etc.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Nonmicrobes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: Pollen, egg white , red blood cell surface molecules, serum proteins, and surface molecules from transplanted tissue.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Lipids and nucleic acids are only antigenic when combined with proteins or polysaccharides.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ahoma"/>
              </a:rPr>
              <a:t>HL Challenge and response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7c80"/>
                </a:solidFill>
                <a:latin typeface="Tahoma"/>
              </a:rPr>
              <a:t>Challenge:</a:t>
            </a:r>
            <a:r>
              <a:rPr b="0" lang="en-GB" sz="1600" spc="-1" strike="noStrike">
                <a:solidFill>
                  <a:srgbClr val="ff7c8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7c80"/>
                </a:solidFill>
                <a:latin typeface="Tahoma"/>
              </a:rPr>
              <a:t>antigens: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7c80"/>
                </a:solidFill>
                <a:latin typeface="Tahoma"/>
              </a:rPr>
              <a:t>substances foreign to the host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7c80"/>
                </a:solidFill>
                <a:latin typeface="Tahoma"/>
              </a:rPr>
              <a:t>which stimulate antibody production by B lymphocytes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7c80"/>
                </a:solidFill>
                <a:latin typeface="Tahoma"/>
              </a:rPr>
              <a:t>Response:</a:t>
            </a:r>
            <a:r>
              <a:rPr b="0" lang="en-GB" sz="1600" spc="-1" strike="noStrike">
                <a:solidFill>
                  <a:srgbClr val="ff7c8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7c80"/>
                </a:solidFill>
                <a:latin typeface="Tahoma"/>
              </a:rPr>
              <a:t>antibodies: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7c80"/>
                </a:solidFill>
                <a:latin typeface="Tahoma"/>
              </a:rPr>
              <a:t>immunoglobulins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7c80"/>
                </a:solidFill>
                <a:latin typeface="Tahoma"/>
              </a:rPr>
              <a:t>produced during protein synthesis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275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Tahoma"/>
              </a:rPr>
              <a:t>How Antibodies work?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7561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Some act as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labels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to identif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antigens for phagocyt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Some work as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antitoxins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i.e. they block toxins for e.g. those causing diphtheria and tetanu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Some attach to bacterial flagella making them less active and easier for phagocytes to engulf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Some cause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agglutination (clumping together)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of bacteria making them less likely to sprea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62" name="" descr="antibody"/>
          <p:cNvPicPr/>
          <p:nvPr/>
        </p:nvPicPr>
        <p:blipFill>
          <a:blip r:embed="rId2"/>
          <a:stretch/>
        </p:blipFill>
        <p:spPr>
          <a:xfrm>
            <a:off x="6732720" y="333360"/>
            <a:ext cx="2124000" cy="20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0" y="0"/>
          <a:ext cx="9144000" cy="6742080"/>
        </p:xfrm>
        <a:graphic>
          <a:graphicData uri="http://schemas.openxmlformats.org/drawingml/2006/table">
            <a:tbl>
              <a:tblPr/>
              <a:tblGrid>
                <a:gridCol w="2411280"/>
                <a:gridCol w="1876680"/>
                <a:gridCol w="2570040"/>
                <a:gridCol w="22860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Type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Number of ag binding site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ite of action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Function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Ig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Blood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Tissue fluid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CAN CROSS PLACENTA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Increase macrophage activity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ntitoxin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gglutination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IgM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Blood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Tissue fluid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gglutination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0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IgA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 or 4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ecretions (saliva, tears, small intestine, vaginal, prostate, nasal, breast milk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top bacteria adhering to host cell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Prevents bacteria forming colonies on mucous membrane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Ig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Tissue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ctivate mast cell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HISTAM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Worm respons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1727280" cy="1036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258920" y="270828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324000" y="4149720"/>
            <a:ext cx="1965240" cy="1317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611280" y="5661000"/>
            <a:ext cx="1312920" cy="942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haracteristics of living thing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operties of lif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ellular Respi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eprodu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Metabolism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Homeostasi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Heredit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esponsivenes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owth and developmen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ntibodies are actively released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y lymphocytes when the body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s infected by a pathogen. This is a natural process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Tahoma"/>
              </a:rPr>
              <a:t>The lymphocytes are activated by the antigen on the pathogens outer surface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ahoma"/>
              </a:rPr>
              <a:t>HL- A vaccine can also be artificially injected into the body. Advantages/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ahoma"/>
              </a:rPr>
              <a:t>Disadvantages?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7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04640"/>
            <a:ext cx="2089080" cy="1532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5940360" y="445464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24360" y="5229360"/>
            <a:ext cx="1655640" cy="124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Blood typ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pic>
        <p:nvPicPr>
          <p:cNvPr id="174" name="Picture 3" descr="bloodtypes"/>
          <p:cNvPicPr/>
          <p:nvPr/>
        </p:nvPicPr>
        <p:blipFill>
          <a:blip r:embed="rId2"/>
          <a:stretch/>
        </p:blipFill>
        <p:spPr>
          <a:xfrm>
            <a:off x="533520" y="1143000"/>
            <a:ext cx="8229600" cy="5792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HL: To Vaccinate or not?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00"/>
                </a:solidFill>
                <a:latin typeface="Tahoma"/>
              </a:rPr>
              <a:t>Vaccines:</a:t>
            </a: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MMR = combined measles/mumps/rubella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DPT = diphtheria, pertussis, typhoi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polio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00"/>
                </a:solidFill>
                <a:latin typeface="Tahoma"/>
              </a:rPr>
              <a:t>Benefits:</a:t>
            </a: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eradication of some diseases (e.g. small pox)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reduced rate of infection; less illness and death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reduced long-term disability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00"/>
                </a:solidFill>
                <a:latin typeface="Tahoma"/>
              </a:rPr>
              <a:t>Dangers:</a:t>
            </a: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low percentage of vaccinations produce side effects, including symptoms of disease, sometimes serious or lethal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artificial immunity not as effective at producing immune response as is active immunity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excessive vaccination may reduce the ability of the immune system to respond to new diseases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vaccination possibly implicated in autism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pic>
        <p:nvPicPr>
          <p:cNvPr id="178" name="image" descr="Uploaded Image"/>
          <p:cNvPicPr/>
          <p:nvPr/>
        </p:nvPicPr>
        <p:blipFill>
          <a:blip r:embed="rId2"/>
          <a:stretch/>
        </p:blipFill>
        <p:spPr>
          <a:xfrm>
            <a:off x="0" y="0"/>
            <a:ext cx="9144000" cy="706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Tahoma"/>
              </a:rPr>
              <a:t>Active vs. Passive Immunity </a:t>
            </a:r>
            <a:endParaRPr b="0" lang="en-US" sz="40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952880" cy="541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ctive immunity:  immunity acquired through individual immune respons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Catching a disease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Passive immunity: immunity acquired through antibodies transferred from one person to anoth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Mother’s milk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81" name="Picture 4" descr="chickenpox"/>
          <p:cNvPicPr/>
          <p:nvPr/>
        </p:nvPicPr>
        <p:blipFill>
          <a:blip r:embed="rId2"/>
          <a:stretch/>
        </p:blipFill>
        <p:spPr>
          <a:xfrm>
            <a:off x="4724280" y="838080"/>
            <a:ext cx="3581640" cy="3086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Breastfeeding"/>
          <p:cNvPicPr/>
          <p:nvPr/>
        </p:nvPicPr>
        <p:blipFill>
          <a:blip r:embed="rId3"/>
          <a:stretch/>
        </p:blipFill>
        <p:spPr>
          <a:xfrm>
            <a:off x="4724280" y="4114800"/>
            <a:ext cx="1824120" cy="274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Tahoma"/>
              </a:rPr>
              <a:t>HL: Active and passive </a:t>
            </a:r>
            <a:br>
              <a:rPr sz="4000"/>
            </a:br>
            <a:r>
              <a:rPr b="0" lang="en-US" sz="4000" spc="-1" strike="noStrike">
                <a:solidFill>
                  <a:srgbClr val="cc0099"/>
                </a:solidFill>
                <a:latin typeface="Tahoma"/>
              </a:rPr>
              <a:t>immunity</a:t>
            </a:r>
            <a:endParaRPr b="0" lang="en-US" sz="40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However, it takes time for the body to react to the infection and produce white (B and T) cells. </a:t>
            </a:r>
            <a:r>
              <a:rPr b="0" lang="en-GB" sz="2400" spc="-1" strike="noStrike">
                <a:solidFill>
                  <a:srgbClr val="99cc00"/>
                </a:solidFill>
                <a:latin typeface="Tahoma"/>
              </a:rPr>
              <a:t>During this time the disease can multiply and spread rapidly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9900"/>
                </a:solidFill>
                <a:latin typeface="Tahoma"/>
              </a:rPr>
              <a:t>                     </a:t>
            </a:r>
            <a:r>
              <a:rPr b="0" lang="en-GB" sz="2400" spc="-1" strike="noStrike">
                <a:solidFill>
                  <a:srgbClr val="cc9900"/>
                </a:solidFill>
                <a:latin typeface="Tahoma"/>
              </a:rPr>
              <a:t>Tetanus is an especially deadly disease tha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9900"/>
                </a:solidFill>
                <a:latin typeface="Tahoma"/>
              </a:rPr>
              <a:t>                      </a:t>
            </a:r>
            <a:r>
              <a:rPr b="0" lang="en-GB" sz="2400" spc="-1" strike="noStrike">
                <a:solidFill>
                  <a:srgbClr val="cc9900"/>
                </a:solidFill>
                <a:latin typeface="Tahoma"/>
              </a:rPr>
              <a:t>can kill in hours. Antibodies can be   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9900"/>
                </a:solidFill>
                <a:latin typeface="Tahoma"/>
              </a:rPr>
              <a:t>                      </a:t>
            </a:r>
            <a:r>
              <a:rPr b="0" lang="en-GB" sz="2400" spc="-1" strike="noStrike">
                <a:solidFill>
                  <a:srgbClr val="cc9900"/>
                </a:solidFill>
                <a:latin typeface="Tahoma"/>
              </a:rPr>
              <a:t>collected from people who have already been vaccinated against it. These can then be injected into people who may have caught the infection. Its only a temporary fix- the spleen and liver break them down. This is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Passive Immunity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                </a:t>
            </a: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Mothers pass antibodies through the placent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                </a:t>
            </a: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during gestation. Colostrum is a liquid made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                </a:t>
            </a: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in the mammary glands during the first few 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                </a:t>
            </a: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days after birth- it lines the gut and protects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               </a:t>
            </a: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against bacteria and viruses.</a:t>
            </a:r>
            <a:r>
              <a:rPr b="0" lang="en-GB" sz="2400" spc="-1" strike="noStrike">
                <a:solidFill>
                  <a:srgbClr val="cc99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0"/>
            <a:ext cx="1280880" cy="1413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2492280"/>
            <a:ext cx="2305080" cy="1355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164360" y="0"/>
            <a:ext cx="1800360" cy="1200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8"/>
          <a:stretch/>
        </p:blipFill>
        <p:spPr>
          <a:xfrm>
            <a:off x="611280" y="5373720"/>
            <a:ext cx="1116000" cy="148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Tahoma"/>
              </a:rPr>
              <a:t>HL Where do antibodies come from?= Lymphocytes</a:t>
            </a:r>
            <a:endParaRPr b="0" lang="en-US" sz="40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Produce antibodi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B-cells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 mature in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bone marrow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 then concentrate in lymph nodes and splee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T-cells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 mature in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thymu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B and T cells mature then circulate in the blood and lymph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irculation ensures they come into contact with pathogens and each other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624720" y="692280"/>
            <a:ext cx="2519280" cy="190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HL White Blood cell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WBC (Lymphocytes) are made in the bone marrow. The cells divide and mature into 2 types: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 Lymphocytes                                  B Lymphocyte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Develop in the thymus gland                                Develop in the lymph nod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rcRect l="0" t="12527" r="0" b="6342"/>
          <a:stretch/>
        </p:blipFill>
        <p:spPr>
          <a:xfrm>
            <a:off x="1835280" y="2492280"/>
            <a:ext cx="1152360" cy="9352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012000" y="2492280"/>
            <a:ext cx="1441440" cy="9414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0" y="401940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lasma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ɞ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ells have a different shape receptor on its membrane. There are about 10 million kinds in your body at any one time! Each can detect any antigen of a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thogen. Once activated they divide very fast (clone) and start to secrete specific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tibodi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Antibodies slowly removed from blood and lymph.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mory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ɞ cells remember antigens and can turn into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lasma ɞ if re-infecte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. 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20400" y="378936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ff00"/>
                </a:solidFill>
                <a:latin typeface="Tahoma"/>
              </a:rPr>
              <a:t>The Humoral (Antibody) Respons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3920" y="378936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ff00"/>
                </a:solidFill>
                <a:latin typeface="Tahoma"/>
              </a:rPr>
              <a:t>The Cell-Mediated Resopns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120960" y="4149720"/>
            <a:ext cx="4731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Tahoma"/>
              </a:rPr>
              <a:t>Foreign, mutant or infected cells are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Tahoma"/>
              </a:rPr>
              <a:t>identified as ‘non-self’ by surface antigens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Tahoma"/>
              </a:rPr>
              <a:t>T helper cell recognises antigens an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Tahoma"/>
              </a:rPr>
              <a:t>alerts the other T cells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Tahoma"/>
              </a:rPr>
              <a:t>Killer (Cytotoxic) cells attack with perforin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Tahoma"/>
              </a:rPr>
              <a:t>or nitric oxide.  T memory cells remembe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Tahoma"/>
              </a:rPr>
              <a:t>the antigen for a later attack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Tahoma"/>
              </a:rPr>
              <a:t>T suppressor cells switch off T and B cell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Tahoma"/>
              </a:rPr>
              <a:t>after attack over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700360" y="1052640"/>
            <a:ext cx="4319640" cy="580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09120" y="304560"/>
            <a:ext cx="8534520" cy="64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How Do B Cells Produce Antibodies?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B cells develop from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tem cells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in the bone marrow of adults (liver of fetuses)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After maturation B cells migrate to lymphoid organs (lymph node or spleen). 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Clonal Selection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:  When a B cell encounters an antigen it recognizes, it is stimulated and divides into many clones called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lasma cells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, which actively secrete antibodies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Each B cell produces antibodies that will recognize only one antigenic determinant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Viruses infecting living cell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3705120" cy="3705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34120" y="3371760"/>
            <a:ext cx="2438280" cy="2571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Tahoma"/>
              </a:rPr>
              <a:t>B -Lymphocytes</a:t>
            </a:r>
            <a:endParaRPr b="0" lang="en-US" sz="40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219280" y="1981080"/>
            <a:ext cx="3467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he antibodies travel to the blood, lymph, lining of gut and lungs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he number of plasma cells goes down after a few week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ntibodies stay in the blood longer but eventually their numbers go down too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4932360" cy="52563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01320" y="692280"/>
            <a:ext cx="29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Challenged and Respons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lonal Selection of B Cells is Caused by Antigenic Stimulation</a:t>
            </a:r>
            <a:endParaRPr b="0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050920" y="1125360"/>
            <a:ext cx="525960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ahoma"/>
              </a:rPr>
              <a:t>Duality of Immune System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.  Humoral (Antibody-Mediated) Immunit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volves production of antibodies against foreign antigens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ntibodies are produced by a subset of lymphocytes called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B cells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B cells that are stimulated will actively secrete antibodies and are called 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plasma cells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ntibodies are found in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xtracellular fluids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(blood plasma, lymph, mucus, etc.) and the surface of B cells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fense against bacteria, bacterial toxins, and viruses that circulate freely in body fluids, 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before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they enter cells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lso cause certain reactions against transplanted tissue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440" y="152280"/>
            <a:ext cx="85345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mmunological Memor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Secondary Response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Subsequent exposure to the same antigen displays a faster and more intense antibody response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creased antibody response is due to the existence of memory cells, which rapidly produce plasma cells upon antigen stimulation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Booster shots increase the number of memory cell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12" name="" descr="Uploaded Image"/>
          <p:cNvPicPr/>
          <p:nvPr/>
        </p:nvPicPr>
        <p:blipFill>
          <a:blip r:embed="rId2"/>
          <a:stretch/>
        </p:blipFill>
        <p:spPr>
          <a:xfrm>
            <a:off x="1692360" y="3141720"/>
            <a:ext cx="5975280" cy="37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Tahoma"/>
              </a:rPr>
              <a:t>HL Production of monoclonal antibodies </a:t>
            </a:r>
            <a:endParaRPr b="0" lang="en-US" sz="40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219280" y="2103120"/>
            <a:ext cx="24591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Extract B cell that can produce the required antibodie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Hybridise with a tumour cell (capable of endless division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In culture the hybridoma can produce large quantities of antibodie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15" name="" descr="hybridoma"/>
          <p:cNvPicPr/>
          <p:nvPr/>
        </p:nvPicPr>
        <p:blipFill>
          <a:blip r:embed="rId2"/>
          <a:stretch/>
        </p:blipFill>
        <p:spPr>
          <a:xfrm>
            <a:off x="7559640" y="2924280"/>
            <a:ext cx="1584360" cy="2663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Uploaded Image"/>
          <p:cNvPicPr/>
          <p:nvPr/>
        </p:nvPicPr>
        <p:blipFill>
          <a:blip r:embed="rId3"/>
          <a:stretch/>
        </p:blipFill>
        <p:spPr>
          <a:xfrm>
            <a:off x="0" y="2060640"/>
            <a:ext cx="5219640" cy="480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Production of monoclonal antibodies</a:t>
            </a:r>
            <a:br>
              <a:rPr sz="2800"/>
            </a:b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and their use</a:t>
            </a:r>
            <a:endParaRPr b="0" lang="en-US" sz="28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Use in diagnosis – will be covered in 11.4.10 (pregnancy diagnostic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reat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Diagnosis: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HIV infection can be diagnosed through a blood test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hich assays for the presence of anti-HIV antibodies,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antibody produced through monoclonal antibody production is an anti-anti-HIV antibody!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Treatment: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Rabies Viru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monoclonal antibodies can be produced which selectively locate and adhere to cancer cell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anti-cancer drugs can be attached to the monoclonal antibodie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o that they deliver their effects directly to the targeted cancer cell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1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5229360"/>
            <a:ext cx="2352960" cy="13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Immune System Abnormaliti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952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llergies: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Exaggerated immune response to antigens called allergen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utoimmune diseases: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Body doesn’t recognize “self” and mounts immune response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22" name="Picture 4" descr="allergy"/>
          <p:cNvPicPr/>
          <p:nvPr/>
        </p:nvPicPr>
        <p:blipFill>
          <a:blip r:embed="rId2"/>
          <a:stretch/>
        </p:blipFill>
        <p:spPr>
          <a:xfrm>
            <a:off x="5029200" y="1676520"/>
            <a:ext cx="4114800" cy="2789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rheumatoidarthritis"/>
          <p:cNvPicPr/>
          <p:nvPr/>
        </p:nvPicPr>
        <p:blipFill>
          <a:blip r:embed="rId3"/>
          <a:stretch/>
        </p:blipFill>
        <p:spPr>
          <a:xfrm>
            <a:off x="5105520" y="4573440"/>
            <a:ext cx="4038480" cy="228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HIV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IV is a virus that specifically attacks the lymphocytes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s means the number of lymphocytes decreases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Less antibodies are made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edict the consequences…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</a:t>
            </a:r>
            <a:r>
              <a:rPr b="0" lang="en-US" sz="3200" spc="-1" strike="noStrike" u="sng">
                <a:solidFill>
                  <a:srgbClr val="cc9900"/>
                </a:solidFill>
                <a:uFillTx/>
                <a:latin typeface="Tahoma"/>
                <a:hlinkClick r:id="rId2"/>
              </a:rPr>
              <a:t>her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for a complex video on how the virus enters the lymphocyt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Transmission of HIV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You should know this from IGCSE!  You tell me!!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Transmission of HIV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Infected blood – blood transfusions, sharing needles,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Infected semen and vaginal mucus – unprotected sex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Infected mother’s milk – low ris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Infected saliva – </a:t>
            </a:r>
            <a:r>
              <a:rPr b="0" i="1" lang="en-GB" sz="3200" spc="-1" strike="noStrike">
                <a:solidFill>
                  <a:srgbClr val="ffff00"/>
                </a:solidFill>
                <a:latin typeface="Tahoma"/>
              </a:rPr>
              <a:t>almost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 zero ris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Viruses are not living organism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ruses do no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Have homeostas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Metaboliz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ruses d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nfect cells and use the cell to make more virus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ause disease in many organis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AID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Acquired Immuno-Deficiency Syndrom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aused by the HIV virus that selectively infects the immune system leaving the body open to infection by removing the specific immunity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880" y="-763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HIV Progression 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pic>
        <p:nvPicPr>
          <p:cNvPr id="233" name="Picture 3" descr="43-20-HIVInfectionStages-L"/>
          <p:cNvPicPr/>
          <p:nvPr/>
        </p:nvPicPr>
        <p:blipFill>
          <a:blip r:embed="rId2"/>
          <a:stretch/>
        </p:blipFill>
        <p:spPr>
          <a:xfrm>
            <a:off x="1143000" y="1295280"/>
            <a:ext cx="7696080" cy="555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Social implications of AID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e social implications of AIDS are well known.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ases of AIDS are not evenly distributed in the world for example there are severe problems in southern Africa.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What cultural and economic reasons are there for differences in the prevalence of AIDS?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s there a moral obligation of those with the technology and the wealth to help others lacking these things in the fight against AIDS?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 rot="20244000">
            <a:off x="175680" y="153720"/>
            <a:ext cx="131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hiller"/>
              </a:rPr>
              <a:t>TOK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Social implications of AID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omework: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ead the article “AIDS takes an economic and Social toll”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ighlight the key points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ead P103 in your text boo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ake notes on the key points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Virus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ruses are micro organisms consisting of a strand of DNA or RNA surrounded by a protein co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ey enter cells and hijack the cells machinery to make more viruses. 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ey then burst out of the host cell, destroying or damaging it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Other pathogen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Bacteria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Fung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Protozoa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Anima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Prion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62600" y="1981080"/>
            <a:ext cx="3408120" cy="41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Antibiotic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746000"/>
            <a:ext cx="874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Major medical improve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Produced by fungi and bacteri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Work on bacteria but…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annot be used on virus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antibiotics block specific metabolic pathways found in bacteria, but not eukaryotic cells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because viruses reproduce using the host cell (eukaryotic) metabolic pathways, they are unaffected by antibiotics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antibiotics have produced great benefits world-wide in the control of bacterial diseases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00"/>
                </a:solidFill>
                <a:latin typeface="Tahoma"/>
              </a:rPr>
              <a:t>Staphylococcus</a:t>
            </a: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 infections controlle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STD's, such as gonorrhea and syphilis controlle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antibiotic resistance has evolved in bacterial populations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0"/>
            <a:ext cx="1873080" cy="1407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16720" y="260280"/>
            <a:ext cx="1655640" cy="109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Non specific immunity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e body resists infection with general (non-specific) and specific methods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on-specific immunity stops a wide variety of pathogens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05:55:05Z</dcterms:created>
  <dc:creator>belindashorland</dc:creator>
  <dc:description/>
  <dc:language>en-US</dc:language>
  <cp:lastModifiedBy>nicholashardy</cp:lastModifiedBy>
  <dcterms:modified xsi:type="dcterms:W3CDTF">2009-10-07T07:13:36Z</dcterms:modified>
  <cp:revision>33</cp:revision>
  <dc:subject/>
  <dc:title>Topic 6.3 Defence against  infectious disease</dc:title>
</cp:coreProperties>
</file>